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7008813" cy="9294813"/>
</p:presentation>
</file>

<file path=ppt/commentAuthors.xml><?xml version="1.0" encoding="utf-8"?>
<p:cmAuthorLst xmlns:p="http://schemas.openxmlformats.org/presentationml/2006/main">
  <p:cmAuthor id="0" name="Willia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5-06-18T21:06:00.416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2388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0EB-6A0E-4F1D-A65F-5B3882D1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0F5-B80D-4CB3-B7D5-C517F5BF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33C-2960-44A4-A78C-2C945D41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AD6-4564-4D30-A4B9-2196C8CA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FD4-DF6E-42D2-BCB1-1ABC4222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2388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D0B-2189-48F4-BF98-AE5B9BCD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14D-FDF7-4E69-8B4E-9691C394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7FB-7B3A-4D6D-BC2F-B68A5A1E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BF3-6E9F-4634-A1F4-4C154BE4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300-2078-403B-98C4-D1AB8C41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A58-EB8F-4830-8026-3F3F9B74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E96-6589-4FC0-AD25-A55F8454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2388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2388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2388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941D4-2EBA-44EA-BF23-EDCC3B49FBF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64094-DBB3-4389-B7E9-F75675E1BA0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9027C-8B6A-46CE-BAC2-11413FB7DE7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3E89F-945C-4717-A09F-1B67AB6BF2B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05359-CA6A-4C23-A8E1-E1520FF822C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2388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72E7A-F55D-4680-BA6D-AC7198855F6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22F64-15E2-4CF6-AD1C-9CA8D14B0CC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61A40-C67C-4A43-A8B3-16E071EE3C7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395C5-09E6-4F5D-B38B-1BDEACD0B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D0E5C-60B9-489D-BC62-1E8B6818C3C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0D621-4077-4AE3-87A1-AC3DCC7E1D5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37120-A6B1-45DC-AEC6-4724D794C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6db5"/>
                </a:solidFill>
                <a:latin typeface="Century Gothic"/>
              </a:rPr>
              <a:t>Click to edit the title text format</a:t>
            </a: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aca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401760">
              <a:spcBef>
                <a:spcPts val="601"/>
              </a:spcBef>
              <a:spcAft>
                <a:spcPts val="601"/>
              </a:spcAft>
              <a:buClr>
                <a:srgbClr val="436db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344520">
              <a:spcBef>
                <a:spcPts val="601"/>
              </a:spcBef>
              <a:spcAft>
                <a:spcPts val="601"/>
              </a:spcAft>
              <a:buClr>
                <a:srgbClr val="9aca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436db5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9ac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86FE-5CAD-4161-9E4D-ACE539148F83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7620120" y="6840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TextBox 5"/>
          <p:cNvSpPr/>
          <p:nvPr/>
        </p:nvSpPr>
        <p:spPr>
          <a:xfrm>
            <a:off x="304920" y="6608880"/>
            <a:ext cx="8381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his document is confidential and contains information proprietary to T360 Payment Solutions Inc. It may not be reproduced, sold or redistributed.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895840" cy="11588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9ac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2188-03DE-453F-92F5-03DD92DD4111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6db5"/>
                </a:solidFill>
                <a:latin typeface="Century Gothic"/>
              </a:rPr>
              <a:t>Click to edit the title text format</a:t>
            </a: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aca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401760">
              <a:spcBef>
                <a:spcPts val="601"/>
              </a:spcBef>
              <a:spcAft>
                <a:spcPts val="601"/>
              </a:spcAft>
              <a:buClr>
                <a:srgbClr val="436db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344520">
              <a:spcBef>
                <a:spcPts val="601"/>
              </a:spcBef>
              <a:spcAft>
                <a:spcPts val="601"/>
              </a:spcAft>
              <a:buClr>
                <a:srgbClr val="9aca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436db5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9ac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8C32-5C31-4AD2-83CD-52F4B0F4A605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7620120" y="6840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304920" y="6608880"/>
            <a:ext cx="8381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his document is confidential and contains information proprietary to T360 Payment Solutions Inc. It may not be reproduced, sold or redistributed.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6db5"/>
                </a:solidFill>
                <a:latin typeface="Century Gothic"/>
              </a:rPr>
              <a:t>Click to edit the title text format</a:t>
            </a: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aca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401760">
              <a:spcBef>
                <a:spcPts val="601"/>
              </a:spcBef>
              <a:spcAft>
                <a:spcPts val="601"/>
              </a:spcAft>
              <a:buClr>
                <a:srgbClr val="436db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344520">
              <a:spcBef>
                <a:spcPts val="601"/>
              </a:spcBef>
              <a:spcAft>
                <a:spcPts val="601"/>
              </a:spcAft>
              <a:buClr>
                <a:srgbClr val="9aca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436db5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14CE-D9CA-413A-94F5-395AC0187A9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9ac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8485-1893-49CB-A4C6-A0220D4C665A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6095880" y="351000"/>
            <a:ext cx="2284560" cy="914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6db5"/>
                </a:solidFill>
                <a:latin typeface="Century Gothic"/>
              </a:rPr>
              <a:t>Click to edit the title text format</a:t>
            </a: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aca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401760">
              <a:spcBef>
                <a:spcPts val="601"/>
              </a:spcBef>
              <a:spcAft>
                <a:spcPts val="601"/>
              </a:spcAft>
              <a:buClr>
                <a:srgbClr val="436db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344520">
              <a:spcBef>
                <a:spcPts val="601"/>
              </a:spcBef>
              <a:spcAft>
                <a:spcPts val="601"/>
              </a:spcAft>
              <a:buClr>
                <a:srgbClr val="9aca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436db5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rcRect l="0" t="16022" r="0" b="27682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9ac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5798-11BB-4E52-832C-4523CA39AFB7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3"/>
          <a:stretch/>
        </p:blipFill>
        <p:spPr>
          <a:xfrm>
            <a:off x="6095880" y="351000"/>
            <a:ext cx="2284560" cy="914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6db5"/>
                </a:solidFill>
                <a:latin typeface="Century Gothic"/>
              </a:rPr>
              <a:t>Click to edit the title text format</a:t>
            </a: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aca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401760">
              <a:spcBef>
                <a:spcPts val="601"/>
              </a:spcBef>
              <a:spcAft>
                <a:spcPts val="601"/>
              </a:spcAft>
              <a:buClr>
                <a:srgbClr val="436db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344520">
              <a:spcBef>
                <a:spcPts val="601"/>
              </a:spcBef>
              <a:spcAft>
                <a:spcPts val="601"/>
              </a:spcAft>
              <a:buClr>
                <a:srgbClr val="9aca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436db5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9ac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EE24-57B1-4377-B17B-A961ABC56075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7620120" y="6840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5"/>
          <p:cNvSpPr/>
          <p:nvPr/>
        </p:nvSpPr>
        <p:spPr>
          <a:xfrm>
            <a:off x="304920" y="6608880"/>
            <a:ext cx="8381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his document is confidential and contains information proprietary to T360 Payment Solutions Inc. It may not be reproduced, sold or redistributed.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6db5"/>
                </a:solidFill>
                <a:latin typeface="Century Gothic"/>
              </a:rPr>
              <a:t>Click to edit the title text format</a:t>
            </a: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aca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401760">
              <a:spcBef>
                <a:spcPts val="601"/>
              </a:spcBef>
              <a:spcAft>
                <a:spcPts val="601"/>
              </a:spcAft>
              <a:buClr>
                <a:srgbClr val="436db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344520">
              <a:spcBef>
                <a:spcPts val="601"/>
              </a:spcBef>
              <a:spcAft>
                <a:spcPts val="601"/>
              </a:spcAft>
              <a:buClr>
                <a:srgbClr val="9aca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436db5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4"/>
          </p:nvPr>
        </p:nvSpPr>
        <p:spPr>
          <a:xfrm>
            <a:off x="365040" y="6410160"/>
            <a:ext cx="5616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uk-UA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2DF75C1E-3CAC-4F00-B20D-944EAA348BFF}" type="slidenum"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685800" y="5334120"/>
            <a:ext cx="8153280" cy="609480"/>
          </a:xfrm>
          <a:prstGeom prst="rect">
            <a:avLst/>
          </a:prstGeom>
          <a:solidFill>
            <a:srgbClr val="9ac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March    2020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6781680" y="5943600"/>
            <a:ext cx="205272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aca3e"/>
                </a:solidFill>
                <a:latin typeface="Trebuchet MS"/>
              </a:rPr>
              <a:t>ELECTRONIC SHELF LABEL</a:t>
            </a:r>
            <a:br>
              <a:rPr sz="4400"/>
            </a:br>
            <a:r>
              <a:rPr b="0" lang="fr-CA" sz="4400" spc="-1" strike="noStrike">
                <a:solidFill>
                  <a:srgbClr val="9aca3e"/>
                </a:solidFill>
                <a:latin typeface="Trebuchet MS"/>
              </a:rPr>
              <a:t> ESL</a:t>
            </a:r>
            <a:endParaRPr b="0" lang="en-US" sz="4400" spc="-1" strike="noStrike">
              <a:solidFill>
                <a:srgbClr val="436db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itle 1"/>
          <p:cNvSpPr/>
          <p:nvPr/>
        </p:nvSpPr>
        <p:spPr>
          <a:xfrm>
            <a:off x="685800" y="91440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acd2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6db5"/>
                </a:solidFill>
                <a:latin typeface="Century Gothic"/>
              </a:rPr>
              <a:t>End to end advantage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cd261"/>
                </a:solidFill>
                <a:latin typeface="Century Gothic"/>
              </a:rPr>
              <a:t>With T360 </a:t>
            </a:r>
            <a:r>
              <a:rPr b="1" lang="mr-IN" sz="3200" spc="-1" strike="noStrike">
                <a:solidFill>
                  <a:srgbClr val="acd261"/>
                </a:solidFill>
                <a:latin typeface="Mangal"/>
              </a:rPr>
              <a:t>…</a:t>
            </a:r>
            <a:r>
              <a:rPr b="1" lang="en-US" sz="3200" spc="-1" strike="noStrike">
                <a:solidFill>
                  <a:srgbClr val="acd261"/>
                </a:solidFill>
                <a:latin typeface="Century Gothic"/>
              </a:rPr>
              <a:t>we  Made it Easy</a:t>
            </a:r>
            <a:endParaRPr b="0" lang="en-US" sz="3200" spc="-1" strike="noStrike">
              <a:solidFill>
                <a:srgbClr val="436db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ontent Placeholder 2"/>
          <p:cNvSpPr/>
          <p:nvPr/>
        </p:nvSpPr>
        <p:spPr>
          <a:xfrm>
            <a:off x="480960" y="1639800"/>
            <a:ext cx="446256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0512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deal Customer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14480" indent="-10512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14480" indent="-10512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tail shop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14480" indent="-10512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Beauty/spa/wellnes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14480" indent="-10512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rket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14480" indent="-10512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permarke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14480" indent="-10512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 store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14480" indent="-10512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90480" y="-360"/>
            <a:ext cx="82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db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21:06:14Z</dcterms:created>
  <dc:creator>roxanne</dc:creator>
  <dc:description/>
  <dc:language>en-US</dc:language>
  <cp:lastModifiedBy>William</cp:lastModifiedBy>
  <cp:lastPrinted>2020-03-17T19:12:10Z</cp:lastPrinted>
  <dcterms:modified xsi:type="dcterms:W3CDTF">2020-03-17T19:39:56Z</dcterms:modified>
  <cp:revision>326</cp:revision>
  <dc:subject/>
  <dc:title>PowerPoint Presentation</dc:title>
</cp:coreProperties>
</file>